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800-6461-4FAB-889A-A30594FFDC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9D2-670F-4DCD-AABB-0A6870F69B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B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gtzlogo-slogan-en-rgb"/>
          <p:cNvPicPr/>
          <p:nvPr/>
        </p:nvPicPr>
        <p:blipFill>
          <a:blip r:embed="rId2"/>
          <a:srcRect l="0" t="384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B7D-F95B-4B09-9E4F-E859E4387A6C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0414A7C6-83E3-4047-930C-3C9FA23097A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95D5-3ACF-46A0-8875-332038FA53EC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912080" y="659304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A034DC0-54BD-4610-A3BD-EE628E59111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" name="Picture 23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2080" y="658296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3" descr="gtzlogo-slogan-en-rgb"/>
          <p:cNvPicPr/>
          <p:nvPr/>
        </p:nvPicPr>
        <p:blipFill>
          <a:blip r:embed="rId2"/>
          <a:srcRect l="0" t="3847" r="0" b="0"/>
          <a:stretch/>
        </p:blipFill>
        <p:spPr>
          <a:xfrm>
            <a:off x="266760" y="0"/>
            <a:ext cx="197964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10B-1C03-4ABC-A9C6-8AAE91C33F5F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5BE5FF37-E3FB-4884-9197-3B5830A76A5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" name="Picture 20" descr=""/>
          <p:cNvPicPr/>
          <p:nvPr/>
        </p:nvPicPr>
        <p:blipFill>
          <a:blip r:embed="rId4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600" spc="-1" strike="noStrike">
                <a:solidFill>
                  <a:srgbClr val="000000"/>
                </a:solidFill>
                <a:latin typeface="Arial"/>
              </a:rPr>
              <a:t>Replacement of batteries of PV-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GTZ 3</a:t>
            </a:r>
            <a:r>
              <a:rPr b="0" lang="en-BZ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 EAST AFRICA REGIONAL ENERGY MEETING,</a:t>
            </a:r>
            <a:br>
              <a:rPr sz="2400"/>
            </a:b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Addis Ababa, Ethiopia, 27th – 30th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Arial"/>
              </a:rPr>
              <a:t>Andi Michel, Energising Development, G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60C-6217-4312-AD66-72EBAF7F7CCA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ergising Developme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ergie und Transport (4413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utsche Gesellschaft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Zusammenarbeit (GTZ) Gmb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tfach 518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5726 Esch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.: + 49 6196 79 410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x: + 49 6196 79 80 410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-Mail: andreas.michel@gtz.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et: http://www.gt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039680" y="2693880"/>
            <a:ext cx="69613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dreas Michel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C2E9-B53A-4796-BBEE-DF0FDC3F9A22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ev Projects – with PV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39680" y="2106720"/>
          <a:ext cx="6961320" cy="4386240"/>
        </p:xfrm>
        <a:graphic>
          <a:graphicData uri="http://schemas.openxmlformats.org/drawingml/2006/table">
            <a:tbl>
              <a:tblPr/>
              <a:tblGrid>
                <a:gridCol w="2598840"/>
                <a:gridCol w="2181240"/>
                <a:gridCol w="2181240"/>
              </a:tblGrid>
              <a:tr h="79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V for HH  (SHS)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V for social inst.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iopia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i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ambique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gladesh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tabLst>
                          <a:tab algn="l" pos="0"/>
                          <a:tab algn="l" pos="2190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6CBC-1D4C-4FC9-AA9A-2B7CAEDD2F6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V –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V -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ficat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replac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 forward / Knowledge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EBF-C8E8-4010-8E0D-B82D3D439B6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V-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1393920" y="2109960"/>
            <a:ext cx="6497640" cy="3849480"/>
            <a:chOff x="1393920" y="2109960"/>
            <a:chExt cx="6497640" cy="3849480"/>
          </a:xfrm>
        </p:grpSpPr>
        <p:pic>
          <p:nvPicPr>
            <p:cNvPr id="115" name="Picture 4" descr="inselanlage"/>
            <p:cNvPicPr/>
            <p:nvPr/>
          </p:nvPicPr>
          <p:blipFill>
            <a:blip r:embed="rId1"/>
            <a:stretch/>
          </p:blipFill>
          <p:spPr>
            <a:xfrm>
              <a:off x="1393920" y="2265480"/>
              <a:ext cx="649764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/>
            <p:cNvSpPr/>
            <p:nvPr/>
          </p:nvSpPr>
          <p:spPr>
            <a:xfrm>
              <a:off x="5959440" y="2290680"/>
              <a:ext cx="164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3554280" y="2109960"/>
              <a:ext cx="1641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arge controller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531800" y="2246400"/>
              <a:ext cx="164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V-cells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3362400" y="4925880"/>
              <a:ext cx="1641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1" lang="en-US" sz="1600" spc="-1" strike="noStrike">
                <a:solidFill>
                  <a:srgbClr val="999999"/>
                </a:solidFill>
                <a:latin typeface="Arial"/>
              </a:endParaRPr>
            </a:p>
          </p:txBody>
        </p:sp>
      </p:grpSp>
      <p:sp>
        <p:nvSpPr>
          <p:cNvPr id="120" name="Line 10"/>
          <p:cNvSpPr/>
          <p:nvPr/>
        </p:nvSpPr>
        <p:spPr>
          <a:xfrm flipH="1">
            <a:off x="3007800" y="5243400"/>
            <a:ext cx="693720" cy="66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016000" y="5861160"/>
            <a:ext cx="20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1000 cycles</a:t>
            </a:r>
            <a:br>
              <a:rPr sz="2200"/>
            </a:br>
            <a:r>
              <a:rPr b="1" lang="en-GB" sz="2200" spc="-1" strike="noStrike">
                <a:solidFill>
                  <a:srgbClr val="999999"/>
                </a:solidFill>
                <a:latin typeface="Arial"/>
              </a:rPr>
              <a:t>app. 3 years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168560" y="2038320"/>
            <a:ext cx="3898800" cy="37782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026-32AB-4A14-B53A-46E3CDD9A242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ateral- and reginoal development measures lead to an increased dissemination of PV-Systems ( &gt; 1.000.00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 environmental risk of PV systems are the lead batteries, especially the lead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many countries no regulated recycling or disposal system for batteri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lot of available PV Systems are of poor quality with a low lifespan (battery &lt; 300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ad price i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le of the informel sector in recycling will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t: Advantages of PV Systems outweigh the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370-969C-431F-A05E-9641035F9795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V - Batt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teries mainly consist of: lead metal (Pb), lead dioxide (Pb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sulphuric acid, lead sulfate (PbS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 is toxic, harmful to the environment and causes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lphuric acid additional contains lead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ppr. opening of batteries releases “lead-du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DB7-96B3-47AE-8B78-3DAD68668D27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mmon recycling prac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tion between rural and 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38600" y="2625840"/>
            <a:ext cx="4448160" cy="39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4280" y="2624040"/>
            <a:ext cx="457704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B375-083A-4C8E-A19D-5311D797AF31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attery recycling factories Bhubaneswar and Kolkata, Ind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batthous"/>
          <p:cNvPicPr/>
          <p:nvPr/>
        </p:nvPicPr>
        <p:blipFill>
          <a:blip r:embed="rId1"/>
          <a:stretch/>
        </p:blipFill>
        <p:spPr>
          <a:xfrm>
            <a:off x="539640" y="314172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Discarded battery casings in a secondary lead smelter in Picnic Gardens, Kolkata."/>
          <p:cNvPicPr/>
          <p:nvPr/>
        </p:nvPicPr>
        <p:blipFill>
          <a:blip r:embed="rId2"/>
          <a:stretch/>
        </p:blipFill>
        <p:spPr>
          <a:xfrm>
            <a:off x="4643280" y="272268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428440" y="5796000"/>
            <a:ext cx="299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Blacksmith Institute 2008</a:t>
            </a: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K International 2008</a:t>
            </a: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umsplatzhalter 4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2B1-4898-4E8E-96E5-73766CFCC833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fication projects / status of replac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40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EnDev 9 projects with PV - electrification component using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ttery recycling system partially analy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nduras: replacement system for batteries through regular “battery replacement f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perienc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umsplatzhalter 3"/>
          <p:cNvSpPr/>
          <p:nvPr/>
        </p:nvSpPr>
        <p:spPr>
          <a:xfrm>
            <a:off x="6756480" y="6593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D1E9-9A6C-4321-B82D-50DBA304002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user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 current recycling prac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and car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pv-systems with hi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improved recycling / replac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withi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endev.inf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cycling of PV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8:43:32Z</dcterms:created>
  <dc:creator>Andreas Michel</dc:creator>
  <dc:description/>
  <cp:keywords>gtz-masterfile</cp:keywords>
  <dc:language>en-US</dc:language>
  <cp:lastModifiedBy>Marie-Luise Albrecht</cp:lastModifiedBy>
  <cp:lastPrinted>2005-12-21T12:33:01Z</cp:lastPrinted>
  <dcterms:modified xsi:type="dcterms:W3CDTF">2009-08-12T08:45:28Z</dcterms:modified>
  <cp:revision>13</cp:revision>
  <dc:subject/>
  <dc:title>Folie 1</dc:title>
</cp:coreProperties>
</file>